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58D-7E01-4F03-AF7F-C5BD5FD7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70E-A213-44AB-B781-B5DBC0B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3C6-1894-41E1-A786-8E130F65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4BD-0665-4BF8-9B43-A3A9B32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D7C-567F-41AB-9EB2-4D95C215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7D5-7480-49CD-81F4-7B8E722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765-5E7C-4D2C-BEC8-AB8DCF2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A8D-56B7-472F-9DE0-EC65FAC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C3D-D6B7-4E33-9F59-9EBE5749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E8E-8D9D-417F-9665-064888A1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770-8FB9-4B56-92FB-83D3AD0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1B3-6C6C-4E25-9995-C2DC1B9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688-2661-42CE-B5CD-BA09D045A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uestion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(Remember your question can not have a yes/ no answer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al world phenomena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happen if 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es 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____________affect the 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blem posing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happens to _____________ if we change 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we ____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we _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127sweeta\Local Settings\Temporary Internet Files\Content.IE5\WOE342NB\MCj04348590000[1].png"/>
          <p:cNvPicPr/>
          <p:nvPr/>
        </p:nvPicPr>
        <p:blipFill>
          <a:blip r:embed="rId1"/>
          <a:stretch/>
        </p:blipFill>
        <p:spPr>
          <a:xfrm>
            <a:off x="7162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edict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_____________ will happen because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_________ then ___________ because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127sweeta\Local Settings\Temporary Internet Files\Content.IE5\WOE342NB\MCj03565170000[1].wmf"/>
          <p:cNvPicPr/>
          <p:nvPr/>
        </p:nvPicPr>
        <p:blipFill>
          <a:blip r:embed="rId1"/>
          <a:stretch/>
        </p:blipFill>
        <p:spPr>
          <a:xfrm>
            <a:off x="1219320" y="4191120"/>
            <a:ext cx="6037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lanning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be chan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be kept the sa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differences be observed or measu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127sweeta\Local Settings\Temporary Internet Files\Content.IE5\9FVX7X4D\MCj04238280000[1].wmf"/>
          <p:cNvPicPr/>
          <p:nvPr/>
        </p:nvPicPr>
        <p:blipFill>
          <a:blip r:embed="rId1"/>
          <a:stretch/>
        </p:blipFill>
        <p:spPr>
          <a:xfrm>
            <a:off x="7124760" y="4317840"/>
            <a:ext cx="1257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bservations, Data, Charts, Graphs, Drawings, and Illustr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are ____________ the same as 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are _____________different from ___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did you notice when you ______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the types of graphs you know, which one is the most appropriate to show your data? Bar Graph? Line Graph? Pie Char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you going to name or title your graph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is the way to show your data: scale, intervals, symbol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lder student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 is our dependent and independent variabl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you going to name each axi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127sweeta\Local Settings\Temporary Internet Files\Content.IE5\WOE342NB\MCj04420200000[1].wmf"/>
          <p:cNvPicPr/>
          <p:nvPr/>
        </p:nvPicPr>
        <p:blipFill>
          <a:blip r:embed="rId1"/>
          <a:stretch/>
        </p:blipFill>
        <p:spPr>
          <a:xfrm>
            <a:off x="6699240" y="5392800"/>
            <a:ext cx="18414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laims and Evidence: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laims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819520"/>
          <a:ext cx="8229600" cy="350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i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viden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claim that 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know that 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 claim this because 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 know this because _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rawing Conclusion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day I learned _____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know this because _____________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127sweeta\Local Settings\Temporary Internet Files\Content.IE5\9FVX7X4D\MCj04418800000[1].wmf"/>
          <p:cNvPicPr/>
          <p:nvPr/>
        </p:nvPicPr>
        <p:blipFill>
          <a:blip r:embed="rId1"/>
          <a:stretch/>
        </p:blipFill>
        <p:spPr>
          <a:xfrm>
            <a:off x="6599160" y="4670280"/>
            <a:ext cx="1279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flection: Next Steps, New Ques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wonder what would happen if  ___________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127sweeta\Local Settings\Temporary Internet Files\Content.IE5\WOE342NB\MCj04042630000[1].wmf"/>
          <p:cNvPicPr/>
          <p:nvPr/>
        </p:nvPicPr>
        <p:blipFill>
          <a:blip r:embed="rId1"/>
          <a:stretch/>
        </p:blipFill>
        <p:spPr>
          <a:xfrm>
            <a:off x="2209680" y="320040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9:28:16Z</dcterms:created>
  <dc:creator>127sweeta</dc:creator>
  <dc:description/>
  <dc:language>en-US</dc:language>
  <cp:lastModifiedBy>127mitchella</cp:lastModifiedBy>
  <dcterms:modified xsi:type="dcterms:W3CDTF">2011-08-22T18:40:50Z</dcterms:modified>
  <cp:revision>16</cp:revision>
  <dc:subject/>
  <dc:title>Using Science Notebooks by Michael P. Klentschy</dc:title>
</cp:coreProperties>
</file>